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1248-B023-4974-92B0-A9DB3637A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AD21-3B5A-4551-BBDB-DE747E2A1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8D09-2938-4371-85E4-C8B419B6B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C941-DF90-445B-A54A-92A4C9A0E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19456-A1BC-4891-A59C-DB4EF28A3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F4805-8EF6-4332-AF22-B0BF3CBCD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0C5DA-1968-40DD-B78D-333767EAF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32C41-C675-448C-87C7-926AE1ACA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5CE13-C49C-46B7-9953-1BDEB2006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DE9BD-525B-4903-A30B-3D20EF6AE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052F3-BAD3-4247-915C-AA465172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EF75-A9CF-41B5-98FF-299A65CDC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46270-E8FD-4221-9537-768514CC9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E8910-0252-49FB-9D13-7391B1F03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DF5B4-2049-4D7B-BB9A-C0439A3B1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62E17-85B7-48F0-A7A8-9F668A031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0C3E6-A982-4790-8946-1147FE41A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0431-1CD3-4835-BDFD-378B7D09F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CD73-EFB4-4A05-9AFC-6228B26C3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42A6-CCBB-439F-8A89-57D5CAE41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179F-DE6F-4EB7-8C37-80D1FAA19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BB24-17B2-4131-B16C-D08CFFCD6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F152-4A4B-4087-A3F1-ED633745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D1E8-A2DE-4EF9-90CD-C1BCA52A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373128-ACE7-41B4-A033-D68391A35F7A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3F81DE-7509-45CF-B34F-B175945ABB29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083C6F-E9DC-4CDD-9DBA-A68AE634536E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B4DBD4-12F7-46F6-AFF2-F5109C613D64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900"/>
            </a:br>
            <a:r>
              <a:rPr b="0" lang="en-US" sz="5900" spc="-1" strike="noStrike">
                <a:solidFill>
                  <a:srgbClr val="2c7c9f"/>
                </a:solidFill>
                <a:latin typeface="Apple Chancery"/>
              </a:rPr>
              <a:t>Beautiful Summer</a:t>
            </a:r>
            <a:endParaRPr b="0" lang="en-US" sz="59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22280" y="838080"/>
            <a:ext cx="649944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98989"/>
              </a:solidFill>
              <a:latin typeface="News Gothic MT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2"/>
          <a:stretch/>
        </p:blipFill>
        <p:spPr>
          <a:xfrm>
            <a:off x="685800" y="838080"/>
            <a:ext cx="7620120" cy="5562720"/>
          </a:xfrm>
          <a:prstGeom prst="rect">
            <a:avLst/>
          </a:prstGeom>
          <a:ln w="0">
            <a:noFill/>
          </a:ln>
        </p:spPr>
      </p:pic>
      <p:pic>
        <p:nvPicPr>
          <p:cNvPr id="86" name="TextBox 7" descr=""/>
          <p:cNvPicPr/>
          <p:nvPr/>
        </p:nvPicPr>
        <p:blipFill>
          <a:blip r:embed="rId3"/>
          <a:stretch/>
        </p:blipFill>
        <p:spPr>
          <a:xfrm>
            <a:off x="682560" y="146160"/>
            <a:ext cx="762624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Title 7" descr=""/>
          <p:cNvPicPr/>
          <p:nvPr/>
        </p:nvPicPr>
        <p:blipFill>
          <a:blip r:embed="rId2"/>
          <a:stretch/>
        </p:blipFill>
        <p:spPr>
          <a:xfrm>
            <a:off x="542880" y="450720"/>
            <a:ext cx="8051760" cy="10000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0" y="2209680"/>
            <a:ext cx="9144000" cy="4648320"/>
          </a:xfrm>
          <a:prstGeom prst="rect">
            <a:avLst/>
          </a:prstGeom>
          <a:gradFill rotWithShape="0">
            <a:gsLst>
              <a:gs pos="0">
                <a:srgbClr val="2181aa"/>
              </a:gs>
              <a:gs pos="100000">
                <a:srgbClr val="b7ccdc"/>
              </a:gs>
            </a:gsLst>
            <a:lin ang="5400000"/>
          </a:gradFill>
          <a:ln w="12600">
            <a:solidFill>
              <a:srgbClr val="287a9e"/>
            </a:solidFill>
            <a:miter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News Gothic MT"/>
              </a:rPr>
              <a:t>Relax </a:t>
            </a:r>
            <a:endParaRPr b="0" lang="en-US" sz="36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News Gothic MT"/>
              </a:rPr>
              <a:t>Enjoy family</a:t>
            </a:r>
            <a:endParaRPr b="0" lang="en-US" sz="36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News Gothic MT"/>
              </a:rPr>
              <a:t>Travel</a:t>
            </a:r>
            <a:endParaRPr b="0" lang="en-US" sz="36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2"/>
          <a:stretch/>
        </p:blipFill>
        <p:spPr>
          <a:xfrm>
            <a:off x="542880" y="298440"/>
            <a:ext cx="8051760" cy="1305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91" name="Picture 3" descr="Photo-0400.jpg"/>
          <p:cNvPicPr/>
          <p:nvPr/>
        </p:nvPicPr>
        <p:blipFill>
          <a:blip r:embed="rId3"/>
          <a:stretch/>
        </p:blipFill>
        <p:spPr>
          <a:xfrm>
            <a:off x="1015920" y="1295280"/>
            <a:ext cx="6756480" cy="4876920"/>
          </a:xfrm>
          <a:prstGeom prst="rect">
            <a:avLst/>
          </a:prstGeom>
          <a:ln w="0">
            <a:noFill/>
          </a:ln>
        </p:spPr>
      </p:pic>
      <p:sp>
        <p:nvSpPr>
          <p:cNvPr id="92" name="TextBox 4"/>
          <p:cNvSpPr/>
          <p:nvPr/>
        </p:nvSpPr>
        <p:spPr>
          <a:xfrm>
            <a:off x="2953440" y="6369120"/>
            <a:ext cx="33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mber and Johnathan Martin</a:t>
            </a: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Title 1" descr=""/>
          <p:cNvPicPr/>
          <p:nvPr/>
        </p:nvPicPr>
        <p:blipFill>
          <a:blip r:embed="rId2"/>
          <a:stretch/>
        </p:blipFill>
        <p:spPr>
          <a:xfrm>
            <a:off x="542880" y="103320"/>
            <a:ext cx="8051760" cy="13474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49000" y="1452600"/>
            <a:ext cx="384012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fb7d7"/>
              </a:solidFill>
              <a:latin typeface="News Gothic M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49000" y="2347560"/>
            <a:ext cx="384012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9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News Gothic MT"/>
              </a:rPr>
              <a:t>Driving Lessons              </a:t>
            </a:r>
            <a:endParaRPr b="0" lang="en-US" sz="19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News Gothic MT"/>
              </a:rPr>
              <a:t>Basketball camp </a:t>
            </a:r>
            <a:endParaRPr b="0" lang="en-US" sz="19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News Gothic MT"/>
              </a:rPr>
              <a:t>Walking and exercise program</a:t>
            </a:r>
            <a:endParaRPr b="0" lang="en-US" sz="19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News Gothic MT"/>
              </a:rPr>
              <a:t>Gardening</a:t>
            </a:r>
            <a:endParaRPr b="0" lang="en-US" sz="19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News Gothic MT"/>
              </a:rPr>
              <a:t>Family reunion</a:t>
            </a:r>
            <a:endParaRPr b="0" lang="en-US" sz="19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News Gothic MT"/>
              </a:rPr>
              <a:t>Sweet sixteen party</a:t>
            </a:r>
            <a:endParaRPr b="0" lang="en-US" sz="19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News Gothic MT"/>
              </a:rPr>
              <a:t>Vacation bible school</a:t>
            </a:r>
            <a:endParaRPr b="0" lang="en-US" sz="19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News Gothic MT"/>
              </a:rPr>
              <a:t>Grasp lesson (Edu. Lessons)</a:t>
            </a:r>
            <a:endParaRPr b="0" lang="en-US" sz="19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News Gothic MT"/>
              </a:rPr>
              <a:t>Act preparation (daughter)</a:t>
            </a:r>
            <a:endParaRPr b="0" lang="en-US" sz="19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50920" y="1452600"/>
            <a:ext cx="384012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fb7d7"/>
              </a:solidFill>
              <a:latin typeface="News Gothic MT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750920" y="2347560"/>
            <a:ext cx="384012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9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Camp outs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Wii parties (son)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Park visits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Zoo visits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Chicago trip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Shopping 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Ice cream soial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Hen party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It class 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7" descr="Photo-0401.jpg"/>
          <p:cNvPicPr/>
          <p:nvPr/>
        </p:nvPicPr>
        <p:blipFill>
          <a:blip r:embed="rId2"/>
          <a:stretch/>
        </p:blipFill>
        <p:spPr>
          <a:xfrm>
            <a:off x="681120" y="685800"/>
            <a:ext cx="5871960" cy="58975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49000" y="1599840"/>
            <a:ext cx="3840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05720" y="1599840"/>
            <a:ext cx="1885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Johnathan having fun in the best area of store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itle 1" descr=""/>
          <p:cNvPicPr/>
          <p:nvPr/>
        </p:nvPicPr>
        <p:blipFill>
          <a:blip r:embed="rId2"/>
          <a:stretch/>
        </p:blipFill>
        <p:spPr>
          <a:xfrm>
            <a:off x="542880" y="103320"/>
            <a:ext cx="8051760" cy="1347480"/>
          </a:xfrm>
          <a:prstGeom prst="rect">
            <a:avLst/>
          </a:prstGeom>
          <a:ln w="0">
            <a:noFill/>
          </a:ln>
        </p:spPr>
      </p:pic>
      <p:pic>
        <p:nvPicPr>
          <p:cNvPr id="103" name="Content Placeholder 5" descr="Photo-0396.jpg"/>
          <p:cNvPicPr/>
          <p:nvPr/>
        </p:nvPicPr>
        <p:blipFill>
          <a:blip r:embed="rId3"/>
          <a:srcRect l="-19430" t="0" r="-19430" b="0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Edwardian Script ITC"/>
              </a:rPr>
              <a:t>Place to Relax</a:t>
            </a:r>
            <a:endParaRPr b="0" lang="en-US" sz="54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05" name="Content Placeholder 3" descr="Photo-0395.jpg"/>
          <p:cNvPicPr/>
          <p:nvPr/>
        </p:nvPicPr>
        <p:blipFill>
          <a:blip r:embed="rId2"/>
          <a:srcRect l="-19430" t="0" r="-19430" b="0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07" name="Content Placeholder 7" descr="Photo-0393.jpg"/>
          <p:cNvPicPr/>
          <p:nvPr/>
        </p:nvPicPr>
        <p:blipFill>
          <a:blip r:embed="rId2"/>
          <a:srcRect l="-19430" t="0" r="-19430" b="0"/>
          <a:stretch/>
        </p:blipFill>
        <p:spPr>
          <a:xfrm>
            <a:off x="549360" y="762120"/>
            <a:ext cx="80420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5T14:21:21Z</dcterms:created>
  <dc:creator>College of Education</dc:creator>
  <dc:description/>
  <dc:language>en-US</dc:language>
  <cp:lastModifiedBy>College of Education</cp:lastModifiedBy>
  <dcterms:modified xsi:type="dcterms:W3CDTF">2009-07-25T19:31:45Z</dcterms:modified>
  <cp:revision>3</cp:revision>
  <dc:subject/>
  <dc:title> Beautiful Summer</dc:title>
</cp:coreProperties>
</file>